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507-E2C4-4E6F-AFFD-99B67ABE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DF6-EF72-4950-96BF-DF61690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65C-89E1-403A-8141-75485820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8F2-03B4-45BD-BB9E-8BE07BBE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E5EC-1E9D-463B-92A9-6CB90BC7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34C9-A786-4A92-B63A-70C964C2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35FD-3415-40D8-96BE-0F7080E3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5D8D-A1B2-4C1A-975D-EB5951B5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E196-D05B-4BAA-972C-3369C1FA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A942-5B5C-46C1-ADF0-285F4F5C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90FA-2ED4-4FB6-9194-932C596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1AE-853C-4D70-BBC1-B9BC0E60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E2A5-5A12-4D4D-9E4D-9D1BCDD8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86D2-8AE5-43E6-9DC8-ECD75589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C4C6-873E-4065-9EB3-D047F033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940F-A5B7-478C-A47F-24ACF775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2C4C-DD2A-49F4-BB89-7DE67D4B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576-C670-4D99-AB41-6851685A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DF8-E76A-44E4-9516-6F0AD49E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8DD-A561-4DC1-9C08-55812A10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AA9-B592-44FB-A3A7-A1A95232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BB3-777E-44B5-A057-58211B6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FAB-1CAF-4006-B50C-A831F6DC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65E-C818-4B57-AE9E-D13F09D2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415E-59A4-4980-91C3-4F573831E3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2D20-299D-426E-8A99-11FFB6844D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36640" y="1854360"/>
            <a:ext cx="639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DCINE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RÓWNYWANIE ODCIN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22360" y="1967040"/>
            <a:ext cx="7156440" cy="14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3080" y="30686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6280" y="2259000"/>
            <a:ext cx="2655720" cy="5396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37000" y="225900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279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4643280"/>
            <a:ext cx="639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zęść prostej n, zawartej między punktami A i B nazywamy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dcinki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Odcinek oznaczamy symbolicznie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11280" y="1584360"/>
            <a:ext cx="6429240" cy="4305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06640" y="458640"/>
            <a:ext cx="77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skaż na rysunku pary odcinków o równej dług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4194000"/>
            <a:ext cx="34920" cy="990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6720" y="4194000"/>
            <a:ext cx="30240" cy="990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1640" y="4103640"/>
            <a:ext cx="0" cy="585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02000" y="4103640"/>
            <a:ext cx="0" cy="585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7000" y="297972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7000" y="4915080"/>
            <a:ext cx="72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02360" y="2664000"/>
            <a:ext cx="21960" cy="63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12000" y="2619360"/>
            <a:ext cx="22320" cy="63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2000" y="491508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02000" y="49150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42000" y="50036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42000" y="39686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30621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2529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97360" y="450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97360" y="396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37360" y="5003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37360" y="3968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27360" y="2664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6640" y="266400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97720" y="2484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7720" y="30621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7720" y="396864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7720" y="4508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316640" y="482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37360" y="482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16640" y="549900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RÓWNYWANIE ODCIN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6640" y="77328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16640" y="4869000"/>
            <a:ext cx="10350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543640"/>
            <a:ext cx="1888920" cy="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308640"/>
            <a:ext cx="2879640" cy="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464200">
            <a:off x="1106280" y="1898640"/>
            <a:ext cx="3509640" cy="3510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81640" y="549900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92720" y="626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6640" y="62643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44809 -0.07199 E">
                                      <p:cBhvr>
                                        <p:cTn id="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09 -0.07199 L 0.44809 0.01991 E">
                                      <p:cBhvr>
                                        <p:cTn id="1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09 0.01991 L 0.44809 0.13148 E">
                                      <p:cBhvr>
                                        <p:cTn id="1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06640" y="2438280"/>
            <a:ext cx="585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Verdana"/>
              </a:rPr>
              <a:t>Ćwiczenie: Narysuj dowolne trzy odcinki i za pomocą cyrkla porównaj ich długoś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30:50Z</dcterms:modified>
  <cp:revision>16</cp:revision>
  <dc:subject/>
  <dc:title>Slajd 1</dc:title>
</cp:coreProperties>
</file>